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F49-EC62-426A-B1E7-3EA661ED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302-B652-4851-A1C3-4AEC3550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A33B-3B6C-4E69-B106-C4A76A37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DA40-DA40-4054-A760-6FF6C1BD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F06-0774-457C-B5C2-A347ACD7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442-8C11-4C90-B23C-1E1C6499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92E-C037-4B4C-B456-23E4E12C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CE5-CF48-4C91-BF5E-DBB8A87C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23A-5FBA-4832-8CD6-C96BD74D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B09-94A6-4796-AE9B-6CEDBE16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374-3D54-4CEA-8FBB-9FF51363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87FB-21E5-4033-848F-FFCA09EA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4392-E61F-4362-974B-344AB2EE3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lect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integrates multiple and mutually supportive farming system components OR builds new partnerships that will facilitate the longer-term RISING research pr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involves substantive collaboration between at least three organiz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will complete reportable results that further the objectives of Feed the Future by September 30,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tional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ssing boundaries, one collaborator not a CG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partner invol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age with existing or previous initiatives, syner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s are known and mapp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igned with national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ilding partnership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 participatory diagnostics to determine concrete issues, develop action plans, design pilot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information baseline for impact assess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too broad/generic: need focus to be achiev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materials needed for next planting sea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ide proposals into numerical results versus steps towards networks/partnerships; consider research and development projects separate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-potential propos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1: Catalogue of crop varieties; aflatoxins literature review; catalogue of crop management options; off-season seed prod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2: Inventory of system components; mapping of development actors. Would like to see this kind of process tied to a specific probl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3: Concerned that the important, strategic projects may not be easily reportable. Training farmers to produce certified seed; dissemination of post-harvest technologies; communication, technology transfer, and outreach strategies; nutrient-enhancing recipes in local languages; identification of networks that support extens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7:23:25Z</dcterms:created>
  <dc:creator>Windows User</dc:creator>
  <dc:description/>
  <dc:language>en-US</dc:language>
  <cp:lastModifiedBy>eleborgne</cp:lastModifiedBy>
  <dcterms:modified xsi:type="dcterms:W3CDTF">2012-02-09T10:59:21Z</dcterms:modified>
  <cp:revision>4</cp:revision>
  <dc:subject/>
  <dc:title>Early Wins</dc:title>
</cp:coreProperties>
</file>